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4E2-4F03-4918-B43D-6C145AC7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3B0-DF6C-4839-884A-F2024F7D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3E7-2E52-4FCB-8368-5C80A22F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BBE-FB38-4C0C-9EEA-C9028BE7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2FF-CC93-4FFB-9180-9C4C0131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977-206A-42F3-BA2E-53FE3835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D5D-B5F0-4295-98C3-8E699307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F8B-A1C0-4C9E-91D9-4F1C574B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E8D-CC8D-494A-9328-A12A8D64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947-FC7C-4292-8444-581ABDC6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139-81CD-47E3-A196-A1591249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E6EB-6503-4423-9F2B-E1F66EBC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7674-177E-4710-A222-835F18ACF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 &amp; Sig Fi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s numbers as a factor of two mult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2000 = 4.3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2000     The decimal moves 5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00000534 = 5.3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0000053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mal moves 6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S. if the number is greater than one the exponent will be positive.  Less than one is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1219320" y="3352680"/>
            <a:ext cx="1015920" cy="31752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40" h="200">
                <a:moveTo>
                  <a:pt x="0" y="48"/>
                </a:moveTo>
                <a:cubicBezTo>
                  <a:pt x="40" y="120"/>
                  <a:pt x="80" y="192"/>
                  <a:pt x="96" y="192"/>
                </a:cubicBezTo>
                <a:cubicBezTo>
                  <a:pt x="112" y="192"/>
                  <a:pt x="80" y="48"/>
                  <a:pt x="96" y="48"/>
                </a:cubicBezTo>
                <a:cubicBezTo>
                  <a:pt x="112" y="48"/>
                  <a:pt x="168" y="192"/>
                  <a:pt x="192" y="192"/>
                </a:cubicBezTo>
                <a:cubicBezTo>
                  <a:pt x="216" y="192"/>
                  <a:pt x="208" y="48"/>
                  <a:pt x="240" y="48"/>
                </a:cubicBezTo>
                <a:cubicBezTo>
                  <a:pt x="272" y="48"/>
                  <a:pt x="360" y="192"/>
                  <a:pt x="384" y="192"/>
                </a:cubicBezTo>
                <a:cubicBezTo>
                  <a:pt x="408" y="192"/>
                  <a:pt x="360" y="48"/>
                  <a:pt x="384" y="48"/>
                </a:cubicBezTo>
                <a:cubicBezTo>
                  <a:pt x="408" y="48"/>
                  <a:pt x="504" y="192"/>
                  <a:pt x="528" y="192"/>
                </a:cubicBezTo>
                <a:cubicBezTo>
                  <a:pt x="552" y="192"/>
                  <a:pt x="512" y="48"/>
                  <a:pt x="528" y="48"/>
                </a:cubicBezTo>
                <a:cubicBezTo>
                  <a:pt x="544" y="48"/>
                  <a:pt x="608" y="200"/>
                  <a:pt x="624" y="192"/>
                </a:cubicBezTo>
                <a:cubicBezTo>
                  <a:pt x="640" y="184"/>
                  <a:pt x="624" y="24"/>
                  <a:pt x="6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1143000" y="4406760"/>
            <a:ext cx="1219320" cy="3175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68" h="200">
                <a:moveTo>
                  <a:pt x="0" y="8"/>
                </a:moveTo>
                <a:cubicBezTo>
                  <a:pt x="16" y="80"/>
                  <a:pt x="32" y="152"/>
                  <a:pt x="48" y="152"/>
                </a:cubicBezTo>
                <a:cubicBezTo>
                  <a:pt x="64" y="152"/>
                  <a:pt x="72" y="8"/>
                  <a:pt x="96" y="8"/>
                </a:cubicBezTo>
                <a:cubicBezTo>
                  <a:pt x="120" y="8"/>
                  <a:pt x="160" y="152"/>
                  <a:pt x="192" y="152"/>
                </a:cubicBezTo>
                <a:cubicBezTo>
                  <a:pt x="224" y="152"/>
                  <a:pt x="264" y="8"/>
                  <a:pt x="288" y="8"/>
                </a:cubicBezTo>
                <a:cubicBezTo>
                  <a:pt x="312" y="8"/>
                  <a:pt x="320" y="152"/>
                  <a:pt x="336" y="152"/>
                </a:cubicBezTo>
                <a:cubicBezTo>
                  <a:pt x="352" y="152"/>
                  <a:pt x="368" y="8"/>
                  <a:pt x="384" y="8"/>
                </a:cubicBezTo>
                <a:cubicBezTo>
                  <a:pt x="400" y="8"/>
                  <a:pt x="416" y="152"/>
                  <a:pt x="432" y="152"/>
                </a:cubicBezTo>
                <a:cubicBezTo>
                  <a:pt x="448" y="152"/>
                  <a:pt x="456" y="0"/>
                  <a:pt x="480" y="8"/>
                </a:cubicBezTo>
                <a:cubicBezTo>
                  <a:pt x="504" y="16"/>
                  <a:pt x="552" y="200"/>
                  <a:pt x="576" y="200"/>
                </a:cubicBezTo>
                <a:cubicBezTo>
                  <a:pt x="600" y="200"/>
                  <a:pt x="608" y="16"/>
                  <a:pt x="624" y="8"/>
                </a:cubicBezTo>
                <a:cubicBezTo>
                  <a:pt x="640" y="0"/>
                  <a:pt x="648" y="152"/>
                  <a:pt x="672" y="152"/>
                </a:cubicBezTo>
                <a:cubicBezTo>
                  <a:pt x="696" y="152"/>
                  <a:pt x="732" y="80"/>
                  <a:pt x="76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&amp; Subtr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e decimal till the exponents ar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2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2.8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8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8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ve to the left = increase ex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2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 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8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.6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Notation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ing &amp; Div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number and add the exponent for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x    2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.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number and subtract exponent for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/    2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7:34:25Z</dcterms:created>
  <dc:creator>Internal User</dc:creator>
  <dc:description/>
  <dc:language>en-US</dc:language>
  <cp:lastModifiedBy>Internal User</cp:lastModifiedBy>
  <dcterms:modified xsi:type="dcterms:W3CDTF">2010-05-10T18:49:28Z</dcterms:modified>
  <cp:revision>261</cp:revision>
  <dc:subject/>
  <dc:title>Scientific Notation &amp; Sig Figs </dc:title>
</cp:coreProperties>
</file>